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D1C-51BE-4971-8ED5-794D81F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A50-C4F5-4A24-9324-785054D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D45-FB1F-4C74-AE05-AF1E7DB2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843-CF37-4BA4-A37D-FAC0F620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75F8-78DA-43F9-8052-AB014FBE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C54-CAEA-4B8D-B4E8-8320FE5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BB6-6580-4B7A-8FA0-5F9761C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CAA5-9962-4FF7-BA34-C9F23106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D38-CAF5-4590-84D9-08C56C94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70E-10E3-45AC-AF28-2D4202B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D47B-AAFF-4F70-A6C1-3992E9B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058-CD3C-4E5E-A93C-F4445F3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F33F-AE69-4071-AB82-9416210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8427-5DBF-4444-8072-0FAADC4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1180-E593-4073-A334-F2155185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5AB-C051-473D-8C3C-D8CBA7A9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9A4-6C49-4EE5-BDA2-628E638D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2BF-F2FC-443B-B43A-9BF21471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EFF-225C-41C4-8EED-B883161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66C-9ACD-47A4-B961-8334A140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A55-1E83-4C9A-8062-1EBA6979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81F-E55C-4FFD-8BCE-437D8E3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640-B849-4AA0-95D1-F7ED168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934-0296-4432-8BA5-7057A3A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A22-E859-42CF-9BD5-492A477813F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544-F818-45A7-80D4-121DE4C3BF8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976C-DC48-4BA6-9AB1-DA729AC3197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E020-524B-4ED8-A196-62E40C2A383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Contexte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Votre mère va préparer une salade de fruits. Elle vous demande d’écrire une liste des provisions pour le supermarché.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âche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Écrire la liste en vous servant des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MCj04238700000[1]"/>
          <p:cNvPicPr/>
          <p:nvPr/>
        </p:nvPicPr>
        <p:blipFill>
          <a:blip r:embed="rId1"/>
          <a:stretch/>
        </p:blipFill>
        <p:spPr>
          <a:xfrm>
            <a:off x="609480" y="3200400"/>
            <a:ext cx="120672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3809880" y="5410080"/>
            <a:ext cx="24195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MPPH02763J0000[1]"/>
          <p:cNvPicPr/>
          <p:nvPr/>
        </p:nvPicPr>
        <p:blipFill>
          <a:blip r:embed="rId3"/>
          <a:stretch/>
        </p:blipFill>
        <p:spPr>
          <a:xfrm>
            <a:off x="838080" y="4952880"/>
            <a:ext cx="206856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Pj04068720000[1]"/>
          <p:cNvPicPr/>
          <p:nvPr/>
        </p:nvPicPr>
        <p:blipFill>
          <a:blip r:embed="rId4"/>
          <a:stretch/>
        </p:blipFill>
        <p:spPr>
          <a:xfrm>
            <a:off x="6781680" y="4114800"/>
            <a:ext cx="1371600" cy="2055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1290000[1]"/>
          <p:cNvPicPr/>
          <p:nvPr/>
        </p:nvPicPr>
        <p:blipFill>
          <a:blip r:embed="rId5"/>
          <a:stretch/>
        </p:blipFill>
        <p:spPr>
          <a:xfrm>
            <a:off x="3122640" y="19051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6"/>
          <a:stretch/>
        </p:blipFill>
        <p:spPr>
          <a:xfrm>
            <a:off x="3124080" y="365760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7"/>
          <a:stretch/>
        </p:blipFill>
        <p:spPr>
          <a:xfrm>
            <a:off x="6070680" y="2209680"/>
            <a:ext cx="26161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8"/>
          <a:stretch/>
        </p:blipFill>
        <p:spPr>
          <a:xfrm>
            <a:off x="577800" y="1752480"/>
            <a:ext cx="1631880" cy="12193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195120" y="2144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286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609480" y="5497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743200" y="2449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743200" y="4125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42900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9436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609480" y="267804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frai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457200" y="44956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raisi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990720" y="641196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bana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3505320" y="31240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or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3352680" y="48880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ê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4038480" y="6400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om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6553080" y="35053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o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6629400" y="6019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ana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cp:lastPrinted>2013-11-26T11:15:57Z</cp:lastPrinted>
  <dcterms:modified xsi:type="dcterms:W3CDTF">2013-12-03T18:14:31Z</dcterms:modified>
  <cp:revision>101</cp:revision>
  <dc:subject/>
  <dc:title>Allez, viens! – Level 2</dc:title>
</cp:coreProperties>
</file>